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AFCCBD-0FDC-4F40-AD68-E6A18512DE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93EC7C-369D-49B9-8AC2-9062374874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262C7A-9F72-4A85-B089-53A878EDBE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57D56C-911C-44C8-A21D-DCEFC93B26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6B5027-C360-47B7-8760-BD7C9B49E6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F856B6-A9EF-4163-81F1-588DF9CA2E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6D6ACC-BCCB-443C-BB5D-2F04E4692A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06FEF0-1668-46D1-A722-E8A900441A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FC749E-0595-472F-8B08-2CB99DDF89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EA6829-F708-4B94-99B8-FBB97B371B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1F0EF9-8EB3-4F17-8AF6-49CBD59E6E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F464BC-0C70-4352-B816-F48083DE29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32AA00-CC65-4A21-8E97-958AB3C415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AB0E7D-9CD8-4B1B-BAFE-195A888AAA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0EC9F6-76D9-4C5F-9F6D-BA52644394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EDF4FB7-78A7-442D-A251-8A2883A7801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71A9D3-A106-402B-B208-86FB8D2D033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B76A53-17E1-4CC7-A2F2-6C1DAC6442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5C04FA-1F2F-4890-9E80-AB3B3301751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B6CDFB-D28E-41B8-B8F7-2D7C3512B4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EB63E5-B858-4F4C-B484-BDE9C23B3F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6B0F7E-3954-4A7C-B7DD-80953667E2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021843-37D5-499A-8D48-068518289D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5DE3D7-A242-499C-8E0C-EF6BABFF51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7B1B5-1D45-489B-8FBE-994F35DA834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E583E-293F-47BA-9545-C4E0A132180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F3DCBB6-A902-49C6-8E90-494613B7627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80FF06B-0D96-43DF-AFFF-FFB860C61B35}"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A29A1D-BD93-4065-88C1-C4C8F0A9F88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1EC90F-C3CC-4EC3-B3A9-98BA887DFAF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C8EB6F-498F-45D9-828C-CA92339E0DE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32163E-4085-4D71-8F87-DDF2BCD1B170}"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3D16AB-8D01-4DB8-9E6B-23007623512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D050B3-68C5-4CBA-92FD-DDA45B6408E7}"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F0C6FB-4A31-4B5B-AC31-259059BA8000}"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E88476-433B-4941-92A8-3420793D36E5}"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7D38E0-3CA0-40CB-B47B-F20243DD86D5}"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ABBE43-F39C-44B3-8710-428D6039F41F}"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6B441C-9DD1-4966-9770-B51E0812AE9F}"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8E8F70-7F4E-4C4C-AA47-6F91D3BFCB43}"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A8473B-BA99-46AE-A738-6C928F9E2BB2}"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CECAE0-720B-4487-8AA3-6F39F9792B16}"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1DF34F-4028-4820-8979-05E5B09B5FF6}"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0B3BEC-D620-4143-A5D1-2DF515EA86E3}"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9B18D5-4E78-4D97-95BB-630CDCEB6B12}"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BC50A7-2684-4DD0-885C-266720677330}"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090FEB-DFAA-4876-9A28-8CF18FCB053F}"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7F2A66-357E-48C4-89C3-54061B943019}"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D2F15D-64C4-4A3C-912A-F93BF315BB3C}"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D06FE7-4F83-45F7-8360-686FE3F59A1F}"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8E87F9-0FBD-45E4-B281-AAACB8CB9D90}"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0C88F3-E397-4078-B3AA-A6EE82B1F5B6}"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D9AE01-AB9D-411B-9FEF-EF286B9162FB}"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69BC916-1F0A-4E1E-A505-5C125B7F4D9B}"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2ED0BC-3316-45E5-94EA-3BFC0F140DD7}"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BEFDB1-D87E-4C13-82A2-54997B358F3C}"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D1262B-99BA-423C-9304-5DCD3189713B}"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755AE7-BBE0-4103-8294-C8FC03B942D8}"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87540D-9939-4A31-B46E-2A055FD7DB64}"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E77806-0C7F-4FC7-983E-C221C9A497A6}"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49FD80-C7D7-4E6F-B9A4-20A095F1111C}"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BC8BB9-6A75-488E-9115-BB098C3D2738}"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B972E8-EF1E-4626-94B4-AC0B16524E0F}"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A31DE5-1BBA-42EF-8DFB-5AC020AD94A1}"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FA9DF0-15EA-4A89-A312-4F87879AB6D0}"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39FF30-B802-4B20-B20B-0C068D868729}"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0C39BB-9553-4140-98A9-2BD766FEAA39}"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D279E7-0C66-4B31-BAEE-DCA63822F8F5}"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35EAC8-D879-4C08-86E0-0048FB54A861}"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0C04CA-CE8E-4F72-B8C0-24D2C2B66889}"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8B4EE7-104C-47ED-A846-8D7BD0178D21}"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E307A3-BB27-4907-9116-823F5D4DA118}"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491FFB-079D-40F6-9421-BA5B8B6D0E08}"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A159D3-52B1-4990-84DF-9A9D10EECADA}"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4F5B4B7-AD91-471C-8DE1-4D540CBFD252}"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2E45DA-305C-4D0B-9352-764313BCC00E}"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994D8F-C966-49BF-8DDA-6013916BD5CB}"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8CFD793-024B-4DCF-BAA8-188B0B264A9D}"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B89642-BF6D-4B90-A165-F89BF6519151}"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93E5AD-FBB2-4A32-BA93-6F98247A04CF}"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DC9CD6-1131-4C6C-A4B0-0AFC665FEB44}"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559257-CF18-47AF-8022-64AEFD256CA5}"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A7FA6E-BB09-49AA-8F73-74A401A98823}"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265DB2-02BE-499E-A008-57B4AB9CB4F0}"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FF7A5B-D8F2-4090-B95C-B1AF9340E031}"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9E5BAD4-3DC7-409B-B485-1F86780A84BE}"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ECAAAB-9205-48DD-A576-3E3DE8E9C7F0}"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98A6D5-E551-4144-881B-057AFAAA0BB0}"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C20180-B529-4CFB-A5C4-E38BCC060202}"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F86ABA-30A9-4418-B49C-9AA3FE7B56C6}"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6AD714-DF9E-4CF4-B096-E2CD56DEC2CB}"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24925BC-ADF5-4689-ABA7-55A1A5EE409F}"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ABCDE3-EEC2-438E-813F-EFFF7BA16F1F}"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A4469C-4D26-41C3-A551-A015A428EFF1}"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819F3B-B258-4B48-BFC1-78ED066934F0}"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60B20A-1630-40F1-80C9-C8D50F0D85CA}"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080B53C-743B-4256-AF14-3920299EDE36}"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F7EC2C-0E6B-4FD9-BE37-C5453B6CACB0}"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C11713-68E8-42A7-BA8F-EF79B1B84C84}"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42D120-686D-4581-ABE1-7A9EDDEF00CC}"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CFACCC-1C0F-4B78-9DE7-22670093870B}"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1888C5-33C7-43D1-91E5-65204ABA15B7}"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B6A0FB-C143-4BF4-AA93-F834AC1518E5}"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EBBAD98-B2D4-4D3E-AD30-1EEFEED8AE07}"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29D945-58D6-4666-9932-F45F0BA2D4DE}"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B7231C-DB32-445E-96EA-D4A126D5794C}"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B81C59-DEDB-41AA-8899-DAFCE42F17F2}"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A2714BA-92E1-4049-ABF4-1EE5AA8337F8}"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6105DB-4E3B-4920-BA31-D793DBBCF997}"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C0C5FD8-FA60-4F70-B081-D7223DCFE6E8}"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FAC098-BC57-4F42-BC15-19837A6C5B7C}"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C8D2D6-1291-4327-81F7-89CFC1E5B425}"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F8919F-3440-4A71-8D12-EAF9C969474A}"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74FEA1-C907-49B8-9884-E26D7343B90B}"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95E49B-46BB-4732-BE8D-A1E27D3E383D}"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224821-0076-45D0-9824-3C683E0291FA}"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6A8083-DC4A-4B5D-8B61-3CF59B1876F3}"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74F9D1-0EA5-4DD3-A95B-5EF4A62DBE9C}"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2ECFBA-7256-4287-BC35-894AA74EFE09}"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4AF307-BBD9-4C06-8B6A-1620B1C66346}"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E6E8A3-2EAC-41EC-BE02-E4AFECFAD85B}"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3F4FFA-C170-41CD-82B6-41DF48309385}"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928014-CBEF-44C5-BD5C-848AD21A7ED4}"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B47451-D894-4C9D-8A9A-4D4E7F0EE712}"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60B8E5-1226-417E-BFC9-520392882DAC}"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546EB52-DE92-4E81-BA01-EC56CCED0644}"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76142C-3AF8-40CE-8470-949AE06B72FD}"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3E1DB9-25EF-4613-ADA4-9BABC918443A}"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E0429D-DCE6-4AD9-BAF4-9F25F52CF7AA}"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6A9DF4-5BC5-4AE0-B4F8-CD2DF28D5DCC}"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65D75A-DA40-46B1-8F43-6C8930B8F3C0}"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8B9BD9-4CF9-4A34-B475-185BA55EDFE7}"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92F55A-188D-45C1-831E-A6F21A64041E}"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D48577-049B-4EBF-BD80-F4DAFB35552A}"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39EC80-353E-43FC-B949-D9DA70797A98}"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1E5502-7E05-477B-984C-CA2A07C0CF33}"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BF1464-AD8E-4E93-9E3B-18081E79E824}"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240447-71CC-470A-A681-36D3EDA71B0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8F8592-F15D-47F2-A141-07F5FA733F97}"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DD615C-4D4F-47F2-B487-9614405CCCF9}"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6E0DD5-F28F-4292-99D5-89AC70B758A2}"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8E8CF3-B47E-4AE5-BEDB-DCA51C91F010}"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3D6269-3650-4D3C-8D68-356C86E5B575}"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0B5BE7-D309-486A-8AF7-7F6AE0BD1B6C}"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73D98B-16C7-49AD-845F-5EFA7F4E922D}"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2474E1-EC7A-4B1A-8A8F-EF234159948A}"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28A32A-2ABB-40CC-AEC2-80A10CF4C5AE}"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1A5944-C933-4896-ACCA-A04E2D48C1D5}"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EFCE82-867B-4BD3-ACBF-2B8037E1B0E3}"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4DAE99-F1C4-4561-A741-92392D9F41DC}"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6D4F78-C672-4C37-BE26-36526FFCDA9F}"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D03C32-C7B3-4121-9484-E7D532102BBD}"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734475-E48C-4E5E-A4B6-BDB2580404A5}"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B6BA4ED-1732-49CE-93DD-9B1437412CB8}"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728FEA-AE9B-43FD-A525-E963E5F0823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642510-5C29-40BE-BE6D-2DD0708818F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F6D7C6-6177-4CD0-9EC3-00D99E4EC41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8A1391-3F98-4568-8B8F-DE910E5133C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D54518-8259-438D-80D1-E271EC5EA22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4DA944-E1E2-47F8-9C3D-CAC40E6E43C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0F649E8-1834-4357-AD20-680CBD471AF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CD4DA6-D42C-4C9A-83DA-21E4401E4ED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4CAC87-1468-45BC-BBC3-C3E3214A0B0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9D0BC2-9189-45F3-A3D2-351A22807FB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1B5F14-A48E-4ED5-BDA7-9DBEF66BC1A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2355F5-924B-4E05-B032-EDC15D649D1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3A709B-FE49-4E86-8F55-7DF933F3576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634370-8E27-4856-A2DC-4C8FDC73117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B76834-E914-49DD-BC8B-65B4B29E781E}"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6F0044-26D7-449A-BD00-F4795BB0176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564E08-56A7-4EB9-A0F5-D5A8CB0F4E9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9289D3-CB18-43F6-95CE-FC6FE6DF9CD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6855CE-52B2-47FA-91FB-4D2E9887FD2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2C1CD8-C616-4852-9F30-1C347DC17EE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97CD01-F227-4CC3-BCDC-B28217AF5AB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8C7715-3263-436A-84E4-FF2CE3398F7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234FA2-5084-4DE1-8412-A429665B656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B944C0-05CA-4C3F-8CFD-06B9750B983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C76EAD-9F66-46BC-85CA-61C7009F943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EA91F7-E1C5-4ACC-ADF9-107D1C1A18D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C0C513-04F4-4767-93B1-509B051F5E4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197D78-325B-4D8E-9286-865853D07BE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E81EEE-759B-4C22-83DD-533D38F135A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BD889C-D22E-45F5-AAD9-0D1878CA7A4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9CC125-A2D1-45C8-8806-AF9F59B74D7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39C3EE-95B5-4F06-AE0C-94D0CEB5260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4600BA-C556-4551-817E-A7BFAADD4D1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C13CAB-53E4-405D-9DFC-B9A7E225513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835D53-6635-490D-9038-119F43EA872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52AC61-35FF-4D2A-8045-638177F898F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F48AD5-C10B-4D4F-BBD9-EAD14EED72CC}"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CD336F-168B-4E2C-8953-01151EA1D9F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77CEDB-4713-4FB1-A33B-6083EBE55BE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1B9D3A-DE92-4F45-913F-5D3C9FF4756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68B93E-1770-4F0F-984A-41D5847CC3FD}"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5A308D-FEEC-414B-BD08-03051A14D71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6B57C9-ED24-456E-BAC9-28DC71E5EE3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F0C397-5735-445C-A86C-FBBF9DA2C42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49ABF4-72C5-4569-A75F-A12F7C6F8D2B}"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9B25B8-CB6B-46A7-94FC-5C431126CDF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BDD799-1456-4377-AB18-776B2F32ED5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FBCFDD8-41C2-4403-89E0-1777AC1EE36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43D292-1DCC-40AA-A70D-CB85493C2C6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4A9CE1-FBF5-4C87-9277-EB8D27D0BB4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146371-88F2-40CB-A49E-94FDC24AB46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36527E-8492-4258-B642-0081760CB09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193FDB-D345-49D8-BB37-A0D7D0EAFC3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FE45E2-7C2B-44B1-99DB-24BA16639621}"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0794FA-FE25-416E-A8C7-D0940B9F8D9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3E09C9-471D-4FEB-80B5-D4DD35CC04B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BFCD4C1-33E2-49BB-A887-4F743895F04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81FF48-5B8F-4B89-92CC-4D0A15EAF7F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BCAAB0-44C9-4D14-BCC2-200A92C1BCA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194B7B-B73B-4D36-9FB0-6FE6160B4AE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B783EB-AADC-47FB-91EF-DF5D0E3D221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F96E65-9B7B-492E-A68F-0A79CA5095E7}"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3B21A4-0F10-40B7-BB24-06038773623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CE56E6-8E68-488D-B63F-E407B9AB740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1994BE-DF38-4415-BD11-4A055EF8E32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D0F062-BD02-4649-8A4C-0441A159E3D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C49976-782C-4045-9AB0-0E0DD1845C39}"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AA6BB0-E9F5-4D53-B7DE-A8D58BF710D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C6EEFA-E706-455D-827A-3CD13A6E4DC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F449D6-6763-47CC-B1CC-F940C8AFE230}"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7B624B-77FE-4E5E-95CB-774F9CFDA4D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E0E1748-1977-44DD-83F8-AE9C3584226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00C29D-A2BF-4F2B-BE11-4605C216673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D0DF20-7B3D-4C81-B719-69FD0E6498B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D0C431-F976-4E6E-BD2D-FE5B04DEFED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7370AF-2992-4122-93BF-9FB61428434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D33256-92BC-4F82-9184-F558F8A920F2}"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0FA701-BF50-453C-A7A5-3E52B16ED23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B528C0-BC5F-46FC-87B6-BA1ECB88FB6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90398A-2027-4B87-92CC-7DCDDFC0759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EDD55F-DEE6-448A-BA4D-5EA125B74C3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75A818-9A88-44FA-9789-626E08305FF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FAA791-A94F-4808-9CA7-D31D142FF26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DF9242-D6C1-430A-B35D-0B390CA70F76}"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FCD280-BD0A-4398-B60B-136DA43EF69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