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9294813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295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526572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93328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526572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294F5-5A17-444F-A85A-F57C7BC81E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 questions to end of s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contact [salesperson X] for slide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ir business card should be in your 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B109EBD4-C0BE-49BF-9CFD-5F61E93AEF94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JBoss ON The Road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8960" y="3429000"/>
            <a:ext cx="64767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in-the-Train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v1.2.SP1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Question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e’re improving, but we’re not perfec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So we’d really like your feed back on the roadshow material and JBoss ON in general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311120"/>
            <a:ext cx="8001000" cy="49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liver “JBoss ON The Road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 over things to look out for when you give the Roadsho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es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im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epare you to present “JBoss ON The Road”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amiliarize you more with JBoss 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egin with the PowerPoi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ll include additional material (normally hidden) to help familiar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ips n’ Trick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ere are the slide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Private CVS: jboss-network\docs-general\enterprise_admin\training\jbossontheroad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gnore the hidden slides when giving presentations (will keep to schedule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gnore notes in [ … ], just there for additional info, not critica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en preparing the slides for the sales team to give out, I print to PDF the visible slides, no notes, 4 slides to a pag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Here is a rough timeline for the JBoss ON training section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h00m Introduction and agenda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h05m JON RoadMap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h20m JON Architecture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h35m JON Install &amp; Config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h00m LAB: JON Install &amp; Confi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h10m BREAK (working lunch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h25m GUI Introduction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h50m LAB: Dashboard Configuration, Software Updat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2h00m Monitoring JBoss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2h15m LAB: JBoss Alert, DataSource cre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2h30m Finis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Install Tip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ttendees should use appropriate installer from root of CD. This is version 1.2.29, which is 1.2.SP1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n Windows if users have APPDATA not set to C: then install will fail: "Error. Cannot open installer log file at D:\blah\install.log“. Work around is to use the Windows Text installer in /etc of C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ttendees should run setup.bat then follow on screen instruction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ed</a:t>
            </a:r>
            <a:r>
              <a:rPr b="0" lang="en-US" sz="20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start up DB server separately when using text install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mo at https://network.jboss.com/confluence/display/DOC/Tutorial-Install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stall Tips (2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en asked for a mailserver: For the demo you can use anything, e.g. localhos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ndows installer only allows you to change http/https ports, others are ignored. Port conflicts should be resolved by turning off the other application, uninstalling and deleting JON, then re-installing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uto-discovery/Inventorying Tip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e don’t support the JBoss AS Binding Service, but do support run –b 127.0.0.1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tric templates: Only apply to resources which are imported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after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template is create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lert templates: Only apply to resource which are imported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befor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template is created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eneral Tip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f a user can't see any resources being imported, restart the agen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f getting exceptions in UI, check server logs, probably related to no network during install. Make sure they have network then uninstall and re-instal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9T13:38:31Z</dcterms:created>
  <dc:creator>ghinkle</dc:creator>
  <dc:description/>
  <dc:language>en-US</dc:language>
  <cp:lastModifiedBy>Charles Crouch</cp:lastModifiedBy>
  <dcterms:modified xsi:type="dcterms:W3CDTF">2006-09-11T22:35:55Z</dcterms:modified>
  <cp:revision>91</cp:revision>
  <dc:subject/>
  <dc:title>JBN Enterprise Management</dc:title>
</cp:coreProperties>
</file>